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FBE6E0-34B7-42E7-BBC9-59AC6E6C83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B6048D-F099-4C91-924C-F7FAF1C77F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EBB2BCC-1D6B-4125-B109-85D3732A54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13C66C4-E3F0-4948-9A89-9D149AD2E5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DED5F20-DACF-44EE-B67F-E3C6010C85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4AEC8A-FD3F-4C98-AC2E-44DF8F0699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E4BC21-F4A2-48CD-9391-75A7AF038F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EE0D2D7-D254-4681-8E8E-C995CB7A77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746E0CC-8FAB-4697-8B1A-D3DFD5EBF1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10F7FB-88DB-43CA-99C2-405260C20A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C14D02-5839-4A0B-8782-C43FE49F71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A16AFE-75BA-49DD-B7E8-CFC1346EF6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E85F-8E40-4934-AAB1-BA531B9E177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220500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九节 发 绀</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9280" y="148392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活动无耐力  与心肺功能不全、氧的供需失衡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低效性呼吸型态  与呼吸系统疾病所致肺泡通气、换气、弥散功能障碍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气体交换受损  与心肺功能不全所致肺淤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22" name="PlaceHolder 2"/>
          <p:cNvSpPr>
            <a:spLocks noGrp="1"/>
          </p:cNvSpPr>
          <p:nvPr>
            <p:ph/>
          </p:nvPr>
        </p:nvSpPr>
        <p:spPr>
          <a:xfrm>
            <a:off x="178920" y="1483920"/>
            <a:ext cx="873612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定义  发绀系由于血液中还原血红蛋白增多，或血液中含有异常血红蛋白衍生物所致的皮肤和黏膜弥漫性青紫现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中心性发绀因心肺疾病，致动脉血氧饱和度降低而引起的发绀；周围性发绀指由于静脉血流缓慢、淤滞、组织氧耗量增加所造成的发绀；混合性发绀为中心性与周围性发绀两者并存，较常见于心功能不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主要表现为甲床、舌、口唇、鼻尖、颊部等部位皮肤黏膜青紫。中心性发绀其特点为除四肢与面颊外，黏膜与躯干皮肤也可见发绀，皮肤温暖，可伴有杵状指（趾）及红细胞增多。周围性发绀表现为肢体末梢如肢端、耳垂与鼻尖等与下垂部位发绀，皮肤冰冷，按摩或加温后，发绀可减轻或消失。异常血红蛋白血症虽有发绀，但一般不出现呼吸困难。</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发绀的特点、范围及严重程度、伴随症状、发绀对患者的影响、有无发绀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 录</a:t>
            </a:r>
            <a:endParaRPr b="0" lang="en-US" sz="3200" spc="-1" strike="noStrike">
              <a:solidFill>
                <a:srgbClr val="ffffff"/>
              </a:solidFill>
              <a:latin typeface="Verdana"/>
            </a:endParaRPr>
          </a:p>
        </p:txBody>
      </p:sp>
      <p:sp>
        <p:nvSpPr>
          <p:cNvPr id="107" name="Rectangle 4"/>
          <p:cNvSpPr/>
          <p:nvPr/>
        </p:nvSpPr>
        <p:spPr>
          <a:xfrm>
            <a:off x="1547640" y="155736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识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正确说出发绀的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确阐述发绀的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正确说出发绀的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理解：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解释发绀的发生机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运用：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运用本章所学知识，能针对发绀的患者作出全面准确的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根据护理评估，能正确作出护理诊断，并列出相关因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560" y="1371240"/>
            <a:ext cx="477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绀（</a:t>
            </a:r>
            <a:r>
              <a:rPr b="1" lang="en-US" sz="2800" spc="-1" strike="noStrike">
                <a:solidFill>
                  <a:srgbClr val="046ca6"/>
                </a:solidFill>
                <a:latin typeface="Verdana"/>
                <a:ea typeface="宋体"/>
              </a:rPr>
              <a:t>cyanosis</a:t>
            </a:r>
            <a:r>
              <a:rPr b="1" lang="zh-CN" sz="2800" spc="-1" strike="noStrike">
                <a:solidFill>
                  <a:srgbClr val="046ca6"/>
                </a:solidFill>
                <a:latin typeface="Verdana"/>
                <a:ea typeface="宋体"/>
              </a:rPr>
              <a:t>）系由于血液中还原血红蛋白增多，或血液中含有异常血红蛋白衍生物所致的皮肤和黏膜弥漫性青紫现象。在皮肤较薄、色素较少和毛细血管丰富的末梢部位，如舌、口唇、鼻尖、颊部和指（趾）甲床表现较为明显。 </a:t>
            </a:r>
            <a:endParaRPr b="1" lang="en-US" sz="2800" spc="-1" strike="noStrike">
              <a:solidFill>
                <a:srgbClr val="8ac8de"/>
              </a:solidFill>
              <a:latin typeface="Verdana"/>
            </a:endParaRPr>
          </a:p>
        </p:txBody>
      </p:sp>
      <p:pic>
        <p:nvPicPr>
          <p:cNvPr id="111" name="Picture 4" descr="二尖瓣面容02"/>
          <p:cNvPicPr/>
          <p:nvPr/>
        </p:nvPicPr>
        <p:blipFill>
          <a:blip r:embed="rId1"/>
          <a:stretch/>
        </p:blipFill>
        <p:spPr>
          <a:xfrm>
            <a:off x="5076720" y="615960"/>
            <a:ext cx="3851280" cy="3454560"/>
          </a:xfrm>
          <a:prstGeom prst="rect">
            <a:avLst/>
          </a:prstGeom>
          <a:ln w="25560">
            <a:solidFill>
              <a:srgbClr val="ffffff"/>
            </a:solidFill>
            <a:miter/>
          </a:ln>
          <a:effectLst>
            <a:outerShdw dist="107932" dir="2700000" blurRad="0" rotWithShape="0">
              <a:srgbClr val="808080">
                <a:alpha val="50000"/>
              </a:srgbClr>
            </a:outerShdw>
          </a:effectLst>
        </p:spPr>
      </p:pic>
      <p:pic>
        <p:nvPicPr>
          <p:cNvPr id="112" name="Picture 5" descr="CYANOSIS"/>
          <p:cNvPicPr/>
          <p:nvPr/>
        </p:nvPicPr>
        <p:blipFill>
          <a:blip r:embed="rId2">
            <a:lum bright="36000"/>
          </a:blip>
          <a:stretch/>
        </p:blipFill>
        <p:spPr>
          <a:xfrm>
            <a:off x="5651640" y="4292640"/>
            <a:ext cx="3009600" cy="2257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与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血液中还原血红蛋白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混合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异常血红蛋白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1267920"/>
            <a:ext cx="914400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其特点为除四肢与面颊外，黏膜与躯干皮肤也可见发绀，皮肤温暖，可伴有杵状指（趾）及红细胞增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表现为肢体末梢如肢端、耳垂与鼻尖等与下垂部位发绀，皮肤冰冷，按摩或加温后，发绀可减轻或消失。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116" name="Rectangle 4"/>
          <p:cNvSpPr/>
          <p:nvPr/>
        </p:nvSpPr>
        <p:spPr>
          <a:xfrm>
            <a:off x="826920" y="2286000"/>
            <a:ext cx="822960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发绀部位         全身性         肢体末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                </a:t>
            </a:r>
            <a:r>
              <a:rPr b="0" lang="zh-CN" sz="2200" spc="-1" strike="noStrike">
                <a:solidFill>
                  <a:srgbClr val="046ca6"/>
                </a:solidFill>
                <a:latin typeface="SimHei"/>
                <a:ea typeface="SimHei"/>
              </a:rPr>
              <a:t>（</a:t>
            </a:r>
            <a:r>
              <a:rPr b="0" lang="zh-CN" sz="1900" spc="-1" strike="noStrike">
                <a:solidFill>
                  <a:srgbClr val="046ca6"/>
                </a:solidFill>
                <a:latin typeface="SimHei"/>
                <a:ea typeface="SimHei"/>
              </a:rPr>
              <a:t>皮肤、黏膜</a:t>
            </a:r>
            <a:r>
              <a:rPr b="0" lang="zh-CN" sz="2200" spc="-1" strike="noStrike">
                <a:solidFill>
                  <a:srgbClr val="046ca6"/>
                </a:solidFill>
                <a:latin typeface="SimHei"/>
                <a:ea typeface="SimHei"/>
              </a:rPr>
              <a:t>）</a:t>
            </a:r>
            <a:r>
              <a:rPr b="0" lang="zh-CN" sz="2600" spc="-1" strike="noStrike">
                <a:solidFill>
                  <a:srgbClr val="046ca6"/>
                </a:solidFill>
                <a:latin typeface="SimHei"/>
                <a:ea typeface="SimHei"/>
              </a:rPr>
              <a:t>     下垂部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皮肤温度         温暖           冷</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按摩或加温       无变化         消失</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杵状指           常有           少见</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红细胞数         增多           正常</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动脉血氧饱和度   降低           正常</a:t>
            </a:r>
            <a:endParaRPr b="0" lang="en-US" sz="2600" spc="-1" strike="noStrike">
              <a:solidFill>
                <a:srgbClr val="046ca6"/>
              </a:solidFill>
              <a:latin typeface="Arial"/>
            </a:endParaRPr>
          </a:p>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7" name="Text Box 5"/>
          <p:cNvSpPr/>
          <p:nvPr/>
        </p:nvSpPr>
        <p:spPr>
          <a:xfrm>
            <a:off x="539640" y="153504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SimHei"/>
                <a:ea typeface="SimHei"/>
              </a:rPr>
              <a:t>               </a:t>
            </a:r>
            <a:r>
              <a:rPr b="1" lang="zh-CN" sz="3200" spc="-1" strike="noStrike">
                <a:solidFill>
                  <a:srgbClr val="ff0066"/>
                </a:solidFill>
                <a:latin typeface="SimHei"/>
                <a:ea typeface="SimHei"/>
              </a:rPr>
              <a:t>中心性发绀   周围性发绀</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异常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急骤出现、暂时性、病情严重；氧疗后青紫不减，静脉血呈深棕色； 静脉注射亚甲蓝、维生素</a:t>
            </a:r>
            <a:r>
              <a:rPr b="1" lang="en-US" sz="2800" spc="-1" strike="noStrike">
                <a:solidFill>
                  <a:srgbClr val="046ca6"/>
                </a:solidFill>
                <a:latin typeface="Verdana"/>
                <a:ea typeface="宋体"/>
              </a:rPr>
              <a:t>C</a:t>
            </a:r>
            <a:r>
              <a:rPr b="1" lang="zh-CN" sz="2800" spc="-1" strike="noStrike">
                <a:solidFill>
                  <a:srgbClr val="046ca6"/>
                </a:solidFill>
                <a:latin typeface="Verdana"/>
                <a:ea typeface="宋体"/>
              </a:rPr>
              <a:t>或硫代硫酸钠可使青紫消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发绀持续时间长，可达数月或更长，患者血液呈蓝褐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发绀的特点、范围及严重程度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发绀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发绀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53:18Z</dcterms:modified>
  <cp:revision>223</cp:revision>
  <dc:subject/>
  <dc:title>内科护理学</dc:title>
</cp:coreProperties>
</file>